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2F2-A1CF-4E50-B07F-F0E21206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F27-1331-4B89-AFAA-709FF0E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DFB-2A54-4273-811A-CD3832A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488-E2C7-4AE5-B87E-261E043F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837C-2AFF-4BC6-A47D-4E7E3172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B48A-F645-425F-B1FF-CFD3157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08C-20E0-4023-B035-DBDCC84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2DE8-DF1A-4FB8-A9E0-C241B88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2DF-3640-46F0-A028-A9CD0905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EA28-3200-42E7-A47D-386F0E4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1A2-9881-40F5-9EDF-EA51D5F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6CD-6D53-42FF-8C63-00FFD735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A01-69FB-4303-A984-4F1918D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A0F-54D9-4D5A-927B-339BC08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FDBE-B32D-4C42-AA40-2B651A96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02DF-B983-4BB8-B0AA-BEE77A88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D346-E4C0-4963-B009-E6F31C27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5EB-B9C0-40BD-8BA0-7BCC717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6E7-D195-47D0-8703-273FF5E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01A-3F93-40DC-AF6A-31119E2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86F-CA62-4A49-80B4-221D35D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512-F98C-4B45-96C2-73C2DEA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48B-8905-4EB6-9AAC-0C46BDD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91E-E1C1-4533-9EB6-7D2BCED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A654-ABC9-474C-9318-C804D4D3B5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33B-DA30-4FEF-9149-F5B84907AF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Me llamo __________</a:t>
            </a: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Clase 6NH (602)</a:t>
            </a:r>
            <a:br>
              <a:rPr sz="4000"/>
            </a:b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La fecha es el 3 de octubre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7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son los alumnos en tu escuel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escribe las oraciones en PLUR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Él es america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curso es fác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ustantiv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ntivo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44792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una persona, animal, lugar o cosa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(a person, animal, place or 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5360" y="2362320"/>
            <a:ext cx="891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Todos los sustantivos tienen GENERO y NUMERO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(all nouns have </a:t>
            </a:r>
            <a:r>
              <a:rPr b="0" i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gender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number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69800" y="345924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asculino (-O, -L, -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98600" y="4297320"/>
            <a:ext cx="45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Femenino (-A, -D, -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800" y="49831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me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6160" y="34290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080" y="510552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ngula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6400" y="582120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ural (2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Artículos  Definid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son los artículos definidos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definite articles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Articulo definido significa “The” en ing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Definite articles mean “the” in English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os artículos definidos se usan cuando se refiere a una persona o cosa EN ESPECIFICO.</a:t>
            </a:r>
            <a:r>
              <a:rPr b="1" i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The definite articles are used when we refer to a SPECIFIC person or t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les son los artículos definid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n ingles solo hay 1 articulo definido “Th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In English there is only 1 definite article “the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os artículos definidos son: el, la, los, l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The definite articles in Spanish are: el, la, los, l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rtículos definido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e usan con sustantivos masculinos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the definite articles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nd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re used for masculine nou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lib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per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jug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car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plat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rtículos definido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e usan con sustantivos femeninos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the definite articles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nd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as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re used for feminine noun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mochil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got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ros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biciclet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comid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Adjetiv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djetivos describen los sustantivos.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Adjectives describe nou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djetivos siempre deben de acordar en gener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m,f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y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s,p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el sustantivo que describe o modifica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Adjectives must always agree in gender and number to the noun it describes or modifie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masculino, sing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os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masculino,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femenino, sing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s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femenino,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adjetivos que terminan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 en consonante pueden describir un susantivo femenino o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800" spc="-1" strike="noStrike">
                <a:solidFill>
                  <a:srgbClr val="336600"/>
                </a:solidFill>
                <a:latin typeface="Verdana"/>
              </a:rPr>
              <a:t>(Adjectives that end in </a:t>
            </a:r>
            <a:r>
              <a:rPr b="1" i="1" lang="en-US" sz="2800" spc="-1" strike="noStrike">
                <a:solidFill>
                  <a:srgbClr val="336600"/>
                </a:solidFill>
                <a:latin typeface="Verdana"/>
              </a:rPr>
              <a:t>–e</a:t>
            </a:r>
            <a:r>
              <a:rPr b="0" i="1" lang="en-US" sz="2800" spc="-1" strike="noStrike">
                <a:solidFill>
                  <a:srgbClr val="336600"/>
                </a:solidFill>
                <a:latin typeface="Verdana"/>
              </a:rPr>
              <a:t> or in a consonant can describe a feminine or masculine nou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cur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nteresan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masculino, singul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materi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nteresan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femenino, singul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difici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masculino, plu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ignatu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ici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femenino, plu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studia la siguiente tabl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9520"/>
        </p:xfrm>
        <a:graphic>
          <a:graphicData uri="http://schemas.openxmlformats.org/drawingml/2006/table">
            <a:tbl>
              <a:tblPr/>
              <a:tblGrid>
                <a:gridCol w="2742840"/>
                <a:gridCol w="2743200"/>
                <a:gridCol w="2743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TICULOS DEFI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CUL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E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282200" y="42814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1360" y="52722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6024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77520" y="5195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7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R3 y R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0:28:56Z</dcterms:created>
  <dc:creator>Helen Zumaeta</dc:creator>
  <dc:description/>
  <dc:language>en-US</dc:language>
  <cp:lastModifiedBy>Helen Zumaeta</cp:lastModifiedBy>
  <dcterms:modified xsi:type="dcterms:W3CDTF">2012-10-02T21:22:33Z</dcterms:modified>
  <cp:revision>14</cp:revision>
  <dc:subject/>
  <dc:title>Me llamo __________ Clase 6NH La fecha es el 23 de enero del 2012</dc:title>
</cp:coreProperties>
</file>